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00748"/>
        <c:axId val="84693283"/>
      </c:barChart>
      <c:catAx>
        <c:axId val="78400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93283"/>
        <c:crosses val="autoZero"/>
        <c:auto val="1"/>
        <c:lblAlgn val="ctr"/>
        <c:lblOffset val="100"/>
        <c:noMultiLvlLbl val="0"/>
      </c:catAx>
      <c:valAx>
        <c:axId val="84693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0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506-2AB0-4DFB-9474-15B7C082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677-8A11-43A4-982F-65DEA3D9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DAF-4D9B-4074-86F6-3C66A2DD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5FC-90A4-464C-B2C3-7D0E7DB5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CDC-B111-4B0F-A2CB-84F90533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E56-FFA2-4881-8050-692C9CA0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B62-6718-4132-A69E-BF533A76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2A2-3C97-45B7-98C6-925D049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E63-93BD-446B-8669-E0339E28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4A7-ABBA-40FF-BAD3-75B4C12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212-FBEA-4736-AA27-DEB19E8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084-893F-4345-8D52-67AF770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FE21C-06BC-49D4-A68F-FDDD63FA8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