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646679"/>
        <c:axId val="20507758"/>
      </c:barChart>
      <c:catAx>
        <c:axId val="256466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07758"/>
        <c:crosses val="autoZero"/>
        <c:auto val="1"/>
        <c:lblAlgn val="ctr"/>
        <c:lblOffset val="100"/>
        <c:noMultiLvlLbl val="0"/>
      </c:catAx>
      <c:valAx>
        <c:axId val="205077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466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209D-0399-4715-AE36-7F5241BA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8FD7-755E-42DA-A796-7133117E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265A-4252-4AEC-9CE8-DE88D93C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9D04-1E1F-49FB-8B87-15697E39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A7D5-EA9F-474A-961D-1C64C1BA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83E8-EF67-44EA-89FA-297A7E78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7D75-4382-485D-865B-8B065B5B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1C77-4B90-4E4A-A314-D83B8118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4B79-E605-4D94-8562-5AB6BB23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554F-AECD-4334-B704-617B6754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5458-042C-425D-AAA2-FE63D3A1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2CD8-33B0-4FAF-8F3F-BAD793F1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E5A2E-6F43-4990-891B-217BCC3891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