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73439"/>
        <c:axId val="93326007"/>
      </c:barChart>
      <c:catAx>
        <c:axId val="76273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26007"/>
        <c:crosses val="autoZero"/>
        <c:auto val="1"/>
        <c:lblAlgn val="ctr"/>
        <c:lblOffset val="100"/>
        <c:noMultiLvlLbl val="0"/>
      </c:catAx>
      <c:valAx>
        <c:axId val="93326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73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D4E-B3F2-419A-831B-15907DCD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C2E-4147-49D4-91F7-80B3B9D7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E4A-2B36-465D-9F2E-E7A6C03A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9D1-F89B-4183-950D-D185A7C5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3D3-E5F6-41A0-9492-37C905D6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11C-6248-4933-A1AE-D3752629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760-1F6F-4E7E-9479-7B8BDA70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A1D-BD67-4446-AF50-43C3C06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09F-168D-4C03-A23E-3600A9F9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315-FE4E-4172-BEAB-FADCAE66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B40-A67B-4308-B8FB-AF41427A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DD9-3F00-4228-8ED3-1078735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EBA53-C085-4D80-AF02-BA4011D77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